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691813" cy="7559675"/>
  <p:notesSz cx="6670675" cy="9896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2FDF-A030-4B34-A12E-8A3E43B37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8BC3-887E-4B74-BDD9-734B9B91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F25E-9C3A-46BF-BB32-60BD9C8C8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F6C2-D262-41E5-B576-C4F2009B1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EDE7-751B-400D-B4A8-7EBF1293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8D17-0216-42E0-B6E4-46EF52E2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2B9A-7139-472D-A72F-BC9C12A2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3EE6-ADBD-4674-A57F-F77C9553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303120"/>
            <a:ext cx="96235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C7CC-59B0-40AD-8855-6D6E570C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9FA4-D867-450B-8EC8-177F80A2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1339-B58D-4964-8AE4-58DE115F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B8FE-CABE-465C-9081-C24F894D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marL="372960" indent="-372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110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2491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43120" indent="-2491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lstStyle>
            <a:lvl1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6885000"/>
            <a:ext cx="3387600" cy="5256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lstStyle>
            <a:lvl1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fld id="{496AF804-4B79-4745-845F-8E543F645A9E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93440" cy="7561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67080" y="1044720"/>
            <a:ext cx="534492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Asistenční centrum Brno</a:t>
            </a:r>
            <a:br>
              <a:rPr sz="2600"/>
            </a:b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pro podporu podnikání ž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3280" y="2052720"/>
            <a:ext cx="10009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ba trvání projektu: 09/2009 – 08/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ování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ropský sociální fond v ČR a státní rozpočet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de proškolen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120 ž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řádáme: semináře, odborné konzultace, worksh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kupin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1 - ženy se záměrem podnik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2 - začínající podnikatelky první 3 roky podnik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3 - začínající podnikatelky: oblast služeb péče o děti do 15 l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Partner projekt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avská asociace podnikatelek a manažerek, o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Regionální klub B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59080" y="6805440"/>
            <a:ext cx="446400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57880" y="303120"/>
            <a:ext cx="1776240" cy="1260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693440" cy="7561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78000" y="1405080"/>
            <a:ext cx="4248000" cy="1749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418000" y="3060720"/>
            <a:ext cx="4969080" cy="1992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306360" y="4807080"/>
            <a:ext cx="4464000" cy="1706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562720" y="1981080"/>
            <a:ext cx="3978000" cy="7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01- zapojeno 168  ž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2360" y="3852720"/>
            <a:ext cx="44085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02- zapojeno 79 ž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5869080"/>
            <a:ext cx="4913280" cy="7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03- zapojeno 19  ž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3475080" y="6805440"/>
            <a:ext cx="446400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93440" cy="7561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67080" y="1044720"/>
            <a:ext cx="534492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Asistenční centrum Brno</a:t>
            </a:r>
            <a:br>
              <a:rPr sz="2600"/>
            </a:b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pro podporu podnikání ž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3280" y="2052720"/>
            <a:ext cx="10009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Nabídka pro klient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dělávání – cykly seminář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radenská činno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stupní konzul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borné konzultace ( účetní, daňové, marketing, reklama, PR, stres a časový management, koučink, ochrana loga, moderní technologie, web-stránky, at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borné právní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tkání s podnikatelkami – business kluby, kulatý stůl – předávání zkuše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186000" y="6805440"/>
            <a:ext cx="446400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93440" cy="7561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467080" y="1044720"/>
            <a:ext cx="534492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Asistenční centrum Brno</a:t>
            </a:r>
            <a:br>
              <a:rPr sz="2600"/>
            </a:b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pro podporu podnikání ž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rcRect l="0" t="23555" r="0" b="37688"/>
          <a:stretch/>
        </p:blipFill>
        <p:spPr>
          <a:xfrm>
            <a:off x="233280" y="1981080"/>
            <a:ext cx="10082160" cy="5256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402000" y="6877080"/>
            <a:ext cx="446400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marL="372960" indent="-372960">
              <a:spcBef>
                <a:spcPts val="876"/>
              </a:spcBef>
              <a:buClr>
                <a:srgbClr val="990033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3500" spc="-1" strike="noStrike">
                <a:solidFill>
                  <a:srgbClr val="990033"/>
                </a:solidFill>
                <a:latin typeface="Arial"/>
              </a:rPr>
              <a:t>Těšíme se na shledanou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876"/>
              </a:spcBef>
              <a:buClr>
                <a:srgbClr val="990033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3500" spc="-1" strike="noStrike">
                <a:solidFill>
                  <a:srgbClr val="990033"/>
                </a:solidFill>
                <a:latin typeface="Arial"/>
              </a:rPr>
              <a:t>na dalším ze seminářů!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876"/>
              </a:spcBef>
              <a:buClr>
                <a:srgbClr val="990033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3500" spc="-1" strike="noStrike">
                <a:solidFill>
                  <a:srgbClr val="990033"/>
                </a:solidFill>
                <a:latin typeface="Arial"/>
              </a:rPr>
              <a:t>podnikanizen@rhkbrno.cz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876"/>
              </a:spcBef>
              <a:buClr>
                <a:srgbClr val="990033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3500" spc="-1" strike="noStrike">
                <a:solidFill>
                  <a:srgbClr val="990033"/>
                </a:solidFill>
                <a:latin typeface="Arial"/>
              </a:rPr>
              <a:t>www.rhkbrno.cz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93440" cy="7561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170000" y="297180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Děkuji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dnikanizen@rhkbrno.c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www.rhkbrno.cz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475080" y="6732720"/>
            <a:ext cx="446400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3:15:21Z</dcterms:created>
  <dc:creator>Věra</dc:creator>
  <dc:description/>
  <dc:language>en-US</dc:language>
  <cp:lastModifiedBy>-</cp:lastModifiedBy>
  <dcterms:modified xsi:type="dcterms:W3CDTF">2011-06-15T08:24:43Z</dcterms:modified>
  <cp:revision>67</cp:revision>
  <dc:subject/>
  <dc:title>První kroky pro vstup do podnikání Ing. Dagmar Jelínková ECONOMY RATING</dc:title>
</cp:coreProperties>
</file>